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B3E6-EF20-4267-832F-B16CC15C0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56A-4980-418D-BCE2-DCDFB676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D12-243D-415A-9E04-26A4D957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D68-C411-4422-9328-CAA7500E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1DF-53D4-4D36-A146-990073A0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3F8-6120-48F6-8B64-8EB77ED0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7CA-57D6-4A36-8383-56F202D9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DEA-9610-4815-87E2-1EC28D1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26A-DE5F-45AA-AD7D-D6B7F933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847-A104-4A05-8988-F8E79A6D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E2F-A6C3-457C-881C-738ED215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FB2-DC07-4786-A61A-B8A9BC18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62D-75EE-4BA5-A8C0-1A9FDAC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E1A0-8046-4515-8C10-1EA7A1952E3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RomaK</cp:lastModifiedBy>
  <dcterms:modified xsi:type="dcterms:W3CDTF">2015-09-04T09:34:50Z</dcterms:modified>
  <cp:revision>8</cp:revision>
  <dc:subject>Trench Warfare in WWI</dc:subject>
  <dc:title>Trench Warfare in WWI</dc:title>
</cp:coreProperties>
</file>